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7F5-A5B1-42D0-A4DB-FCD227E7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BFB-8605-4AD3-AA4B-BD907276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20D-5370-4BB4-BA51-D35B6326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4CE-6B13-4B9B-AD50-0240B478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6E3-AF06-40D4-96BA-1865597B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217-738C-4329-8FDE-DAD98EBF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4FDA-DC5A-49EC-B70E-A5D7FFD5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6E9F-4A2E-4BF2-9A10-6C230F50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46D-5AB4-4ED2-A28D-8DD7E5AA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B22-0738-4ED7-B835-23A0A243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AF1-141F-4953-885E-2329C774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558-7193-41EF-85F3-677AC345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D224-4C6E-4A52-8448-E002087B6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1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60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RDERS  ASSOC.                 BORDERS  ASSOC  100TH                      BERWICKSHIRE  ASSOC.                    ABBOTTSFORD                                ABBOTSFORD                           ABOTTSFORD  100TH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76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CRUM                                             AYTON                                              AYTON                                                 BERWICK                                       BERWICK                                        BERWICK  100TH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RNSIDE                                    CHIRNSIDE                                       CHIRNSIDE  75TH                                COLDSTREAM                               COLDSTREAM                                    COLDSTRE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ROUGHTON  PUBLIC                           BUCCLEUGH                                       BUCCLEUGH                                   BUCCLEUGH                                       BUCCLEUGH                                   BUCCLEUGH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1800" y="620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728880" y="62064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168880" y="476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681960" y="47628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337600" y="404640"/>
            <a:ext cx="102384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31800" y="220500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728880" y="2276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2216160" y="2349360"/>
            <a:ext cx="822240" cy="95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168880" y="2133720"/>
            <a:ext cx="122544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6753240" y="227664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8408880" y="2133720"/>
            <a:ext cx="1042920" cy="113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560520" y="378936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2000160" y="37893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3728880" y="393372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240160" y="3933720"/>
            <a:ext cx="1043280" cy="1024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6824520" y="400536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337600" y="386064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704880" y="5877000"/>
            <a:ext cx="895320" cy="77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2144880" y="58053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3800520" y="5661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6824520" y="55897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8553600" y="5661000"/>
            <a:ext cx="749160" cy="95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384880" y="5300640"/>
            <a:ext cx="947520" cy="1306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2000160" y="333360"/>
            <a:ext cx="1190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3:26:42Z</dcterms:created>
  <dc:creator>JOHN YOUNG</dc:creator>
  <dc:description/>
  <dc:language>en-US</dc:language>
  <cp:lastModifiedBy>JY</cp:lastModifiedBy>
  <dcterms:modified xsi:type="dcterms:W3CDTF">2008-04-29T08:41:01Z</dcterms:modified>
  <cp:revision>28</cp:revision>
  <dc:subject/>
  <dc:title>No Slide Title</dc:title>
</cp:coreProperties>
</file>